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3336-6F3B-483C-B886-77928277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62C5-7716-4AD5-92E3-82AB2D1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FE45-09D4-4F15-8AB1-2B2592D6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907C-6B1C-44CC-BC4A-D35DC513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241-F166-4B98-9543-7C8E0D77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5614-19D8-4F16-B6A2-0BB2520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8D64-D186-4A12-8948-7F2E36A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819-FAB4-4358-896C-4BFF195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F54-9C90-42AF-9296-11490778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6EEA-EB7C-49D9-806F-39F68A38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5AC-85A1-4230-8809-1068B39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4AD7-42CE-4D8A-9A43-A5EA358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31C7-8D36-4BE2-988B-C84C5602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E30-2E21-4587-A428-45AF518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134-FEA1-4137-B102-609B45E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FE28-5051-4B5A-BF08-541C64BD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C99B-E415-4001-9045-7CA56E34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556F-5E70-4279-8649-1C9EE501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2ECF-7EBE-468D-9C94-2DD4AC4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42EC-C220-4C7A-ABF8-38F3D55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D74F-61D4-4751-8ED3-17A5C1F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4BAD-39E1-4A83-8F97-660D1C4D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CD3B-B5B8-4884-85BC-518A24D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891C-8E99-4616-BA5B-B7C4E9C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ABC-CA1F-4F37-A527-967D0AA8A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EB2-9D3C-4DCE-8826-BA4F9CB46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1833120"/>
            <a:ext cx="6075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新たな働き方をめざした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オフィス改革</a:t>
            </a:r>
            <a:r>
              <a:rPr b="1" lang="zh-TW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支援業務委託</a:t>
            </a:r>
            <a:br>
              <a:rPr sz="2800"/>
            </a:br>
            <a:r>
              <a:rPr b="1" lang="ja-JP" sz="2800" spc="-1" strike="noStrike">
                <a:solidFill>
                  <a:srgbClr val="ffffff"/>
                </a:solidFill>
                <a:latin typeface="メイリオ"/>
                <a:ea typeface="メイリオ"/>
              </a:rPr>
              <a:t>企画提案書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メイリオ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・提案書（副本）に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様式２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3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2BB3-451D-4A77-854F-16ED6BA9DAD5}" type="slidenum"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大野 雄太</cp:lastModifiedBy>
  <cp:lastPrinted>2020-01-07T04:53:42Z</cp:lastPrinted>
  <dcterms:modified xsi:type="dcterms:W3CDTF">2025-01-21T06:45:33Z</dcterms:modified>
  <cp:revision>79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